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1C2-66AB-4B1A-9CE7-A1053327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E55-1E49-4C3C-BBC2-8153B2E0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CED-40BA-498A-84A2-94D3AECF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A61-48E7-4450-A320-46BA3C09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1C2-8451-41C4-88B4-D5C4FE27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A58-DE46-4982-885F-2DB5018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2C4-ED04-4AC4-9D1B-43F65591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6A8-AB8E-4C50-B21E-D8E313D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7F8-5992-4176-BC64-3491E91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AF5-BA07-4B19-A948-BDC0639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395-B4D8-4346-89BC-9BC1E60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10C-DFAD-4D3F-9414-3B7BE44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660B-7693-4522-BCCA-F37382EB1441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имволика в романе Ф.М Достоевского «Преступление и наказание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Georgia"/>
              </a:rPr>
              <a:t>Выполнила Машкалёва Настя, ученица 10 класса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Picture 2" descr="http://cs1057.vkontakte.ru/u375141/5741963/x_38a5e94b.jpg"/>
          <p:cNvPicPr/>
          <p:nvPr/>
        </p:nvPicPr>
        <p:blipFill>
          <a:blip r:embed="rId1"/>
          <a:stretch/>
        </p:blipFill>
        <p:spPr>
          <a:xfrm>
            <a:off x="533520" y="3124080"/>
            <a:ext cx="236196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1057.vkontakte.ru/u375141/5741963/x_8995d2c2.jpg"/>
          <p:cNvPicPr/>
          <p:nvPr/>
        </p:nvPicPr>
        <p:blipFill>
          <a:blip r:embed="rId2"/>
          <a:stretch/>
        </p:blipFill>
        <p:spPr>
          <a:xfrm>
            <a:off x="2590920" y="3581280"/>
            <a:ext cx="2361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4 имеет основополагающее значение. Есть четыре времени года, четыре Евангелия, четыре стороны света. Вот, например, слова Сони: “Стань на перекрёстке, поклонись всему свету на все четыре сто 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7: роман имеет 7 частей: 6 частей и эпилог. Роковое время для Раскольникова - 7 часов вечера. Теологи называют число 7 истинно святым числом, так как число 7 – это соединение числа 3, символизирующего божественное совершенство (Святая троица) и числа 4 – числа мирового порядка. Следовательно,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исло 7 является символом “союза” Бога и человека.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Поэтому, “посылая” Раскольникова на убийство именно в 7 часов вечера, Достоевский заранее обрекает его на поражение, так как тот хочет разорвать этот союз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т почему, чтобы восстановить этот союз, чтобы снова стать человеком, герой должен снова пройти через это истинно святое число. В эпилоге романа возникает число 7 , но уже не как символ гибели, а как спасительное число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9" name="Picture 2" descr="http://cs207.vkontakte.ru/u472728/34944286/x_7c801db8.jpg"/>
          <p:cNvPicPr/>
          <p:nvPr/>
        </p:nvPicPr>
        <p:blipFill>
          <a:blip r:embed="rId1"/>
          <a:stretch/>
        </p:blipFill>
        <p:spPr>
          <a:xfrm>
            <a:off x="2895480" y="2286000"/>
            <a:ext cx="3333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Georgia"/>
              </a:rPr>
              <a:t>Символика имён и фамилий герое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Раскольник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милия указывает на явление раскола и напоминает о раскольниках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армелад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новные качества мармелада, особенно «мягкий», «слишком сладкий» соответствуют чертам характера героя и его манере изъяснятьс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ня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офья – мудрость. Чаще употребляется в романе: Соня, Сонечка, этим подчёркивается её детскость. Раскольников называет героиню вначале (даже про себя) Софьей Семёновной, как бы признавая недетскую мудрость маленькой героини, хотя и не понимая её до конц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азумих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 содержит более глубокий смысл, нежели распространённое ныне житейское понимание слова «разум». Разум – «духовная сил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уж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, как и герой, ассоциируется с мелким грязным временным водоёмом: если попасть в лужу, можно испачкатьс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ебезятников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ень этой фамилии «лебезить» означает: «егозить, елозить прислуживаясь, льстить, ластиться, ухаживать, увиваться, угодничать, подъезжать; …сплетничать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Мы рассмотрели основные символы романа « Преступление и наказание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ни несут глубокий смысл, проясняющий общую ткань повествования. Помогают проникнуть в сокровенные глубины произведени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" name="Picture 2" descr="C:\Documents and Settings\Владелец\Рабочий стол\8-1.jpg"/>
          <p:cNvPicPr/>
          <p:nvPr/>
        </p:nvPicPr>
        <p:blipFill>
          <a:blip r:embed="rId1"/>
          <a:stretch/>
        </p:blipFill>
        <p:spPr>
          <a:xfrm>
            <a:off x="434340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Цель моего исследования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eorgia"/>
              </a:rPr>
              <a:t>Показать на примере романа «Преступление и наказание» великого писателя и мыслителя Ф.М. Достоевского значение символа. </a:t>
            </a:r>
            <a:endParaRPr b="0" lang="en-US" sz="37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Что же такое символ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Символ есть знак, условно выражающий сущность явления с определённой точки зрения» (Л. И. Тимофеев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….можно утверждать, - хотя это и могло бы показаться парадоксальным, - что символ есть такая реальность, которая больше себя самой. ... (о. Павел Флоренский 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В романе можно выделить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цвет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смотрим два основных символических цвета романа: желтый и красный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кольник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морка с жёлтенькими обоями; « тяжёлая,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елчн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злая улыбка змеилась по его губам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ня ( комната с «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елтоваты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оями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рфирий Петрович(мебель из «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тполированного дерева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видригайл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ый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цвет обоев в комнате гостиницы, где остановился герой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аруха – процентщица ( одета в  истрёпанную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ожелтелую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цавейку, мебель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ерева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4" name="Picture 2" descr="http://cs1117.vkontakte.ru/u5402649/11264012/x_3f19ac41.jpg"/>
          <p:cNvPicPr/>
          <p:nvPr/>
        </p:nvPicPr>
        <p:blipFill>
          <a:blip r:embed="rId1"/>
          <a:stretch/>
        </p:blipFill>
        <p:spPr>
          <a:xfrm>
            <a:off x="6019920" y="1447920"/>
            <a:ext cx="2819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eorgia"/>
              </a:rPr>
              <a:t>Красный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цена убийства -  кровавый цвет: “кровь хлынула, как из опрокинутого стакана”, “красный сафьян”, “красный гарнитур”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чало активности (повышается пульс, поднимается давление, учащается дыхание)- красные пятна на шеках Екатерины Ивановны. Парни из первого сна Раскольникова, добивающие лошадёнку, были пьяные и тоже красные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ярко-красным был закат, когда герой отказался от своего “наваждения”. Сама природа как будто поддерживала его в тот момент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ёлтый цвет в романе создаёт дополнительное ощущение болезненности, усиливает атмосферу нездоровья, расстройства, надрыва, истеричности и одновременно затхлости и безысходности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асный цвет  ассоциируется с кровью, с преступлением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чисел в романе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festival.1september.ru/articles/505939/image3.GIF"/>
          <p:cNvPicPr/>
          <p:nvPr/>
        </p:nvPicPr>
        <p:blipFill>
          <a:blip r:embed="rId1"/>
          <a:stretch/>
        </p:blipFill>
        <p:spPr>
          <a:xfrm>
            <a:off x="1143000" y="1447920"/>
            <a:ext cx="5638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4" name="Picture 2" descr="http://festival.1september.ru/articles/505939/image2.GIF"/>
          <p:cNvPicPr/>
          <p:nvPr/>
        </p:nvPicPr>
        <p:blipFill>
          <a:blip r:embed="rId1"/>
          <a:stretch/>
        </p:blipFill>
        <p:spPr>
          <a:xfrm>
            <a:off x="1066680" y="14479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1T19:03:29Z</dcterms:modified>
  <cp:revision>20</cp:revision>
  <dc:subject/>
  <dc:title>  Символика в романе Ф.М Достоевского «Преступление и наказание» </dc:title>
</cp:coreProperties>
</file>